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750F-FF0C-4F61-9366-284E9E2D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DC7-4751-4968-8FBE-0977DA7A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AAE6-3B5E-4084-8D5A-50075A23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B59-8DF7-42C6-923E-6DBE7A6E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B02-9C77-4E79-BF78-CEDA7E4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423-4CC9-404C-821E-C3C57651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C794-93A5-4110-9223-F51D65F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0B02-5343-4F30-86ED-9ADA4BC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90F-7873-4230-AA28-7BF1A1C8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2C8-52B7-4CEB-8ED7-0410C3EA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9EA-ED5B-4577-B23B-649CBAC4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698-CB4B-4F75-A63A-19B8C11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5F5F-D804-4617-9506-52CB2EBF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920"/>
            <a:ext cx="3581280" cy="47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خلِّني قربَ الصليب حيث سالَ المجر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Arabic Transparent"/>
              </a:rPr>
              <a:t>مِن دمِ الفادي الحبيب داءُ نفسي يبرأ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505320" cy="41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Arabic Transparent"/>
              </a:rPr>
              <a:t>قد محا عندَ الصليب دمُ ربي إثمي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وعنِ القلبِ الكئيب زالَ كلُّ الهمّ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38560" y="0"/>
            <a:ext cx="59054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219320"/>
            <a:ext cx="320040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rabic Transparent"/>
              </a:rPr>
              <a:t>قد رأينا في الصليب قوَّةَ الرَّحمان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Times New Roman"/>
              </a:rPr>
              <a:t>إذ بدا أمرٌ عجيب فِديةٌ للجاني</a:t>
            </a:r>
            <a:r>
              <a:rPr b="0" lang="ar-S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04920"/>
            <a:ext cx="2209680" cy="89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rabic Transparent"/>
              </a:rPr>
              <a:t>مَن قضى فوقَ الصليب ذاكَ جُلُّ القَصد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Times New Roman"/>
              </a:rPr>
              <a:t>سَأراهُ عن قريب فوقَ عرشِ المجدِ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162920" y="1066680"/>
            <a:ext cx="1752480" cy="59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مات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5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8500" spc="-1" strike="noStrike">
                <a:solidFill>
                  <a:srgbClr val="ffcccc"/>
                </a:solidFill>
                <a:latin typeface="Times New Roman"/>
              </a:rPr>
              <a:t>عنّ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8686800" cy="800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380880"/>
            <a:ext cx="3429000" cy="81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صليب في الصليب راحتى بل فخر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حياتي وكذا بعد دفن القب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09:52:21Z</dcterms:created>
  <dc:creator>SUZANNE.MD</dc:creator>
  <dc:description/>
  <dc:language>en-US</dc:language>
  <cp:lastModifiedBy>HANI SAFI</cp:lastModifiedBy>
  <dcterms:modified xsi:type="dcterms:W3CDTF">2003-03-17T14:16:02Z</dcterms:modified>
  <cp:revision>2</cp:revision>
  <dc:subject/>
  <dc:title>PowerPoint Presentation</dc:title>
</cp:coreProperties>
</file>